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C84-F732-4B5D-882E-4745EB2F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752-CE33-4536-8944-70D55008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319-A229-4DE3-9F47-FFA473BC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CC7-D96C-433B-B178-5ED2E69D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8E13-F4E1-4500-83D3-E61F8C8C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265B-1E11-41A0-9A87-44F12835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4282-44E8-44C6-B432-77A6E4B9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9BA4-4C51-4CA3-9A0A-17C476B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B546-D120-459B-BB2D-29CE9D7D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24EB-D999-418B-871A-7CB5EAE7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1490-4E45-4726-BADA-545D66F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CD8-2162-4B6F-96FA-D92DD26C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968-A80B-46AB-B6CA-0FAD5044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912A-602A-4FF2-8031-C804538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79DA-0408-405A-90F8-808F407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637-1970-48E5-A537-5749A6C3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52E-675D-4B20-AF72-5FBFC61B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F87-93BA-47B4-BDD8-F1F0D300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5EF-309E-4EB5-BD14-774A16E7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76B-1284-466F-8A6C-E6CE5E73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706-2D53-4E98-B04D-5EF24F82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4D9-BAFE-4656-9A7E-1F108794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D18-544F-4627-9DEA-998BB1D0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BCC-1A8A-49F7-800D-05C62C49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DF7B-62F5-4B8F-A243-C97DCF34A800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941-0BAA-4675-A59B-8DB64E58435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admint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81280" y="388620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ed for Mr. Stanton’s Westmoor High School Physical Educ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urt Dimensio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 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53341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touching of 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score points only off of own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must land diagonal in opponents service b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ket must contact birdie underneath rib cage during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mes up to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ules Cont…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hit per s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huttlecock hits net in live play and drops over to opponents side it is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Birdie hits any part of body (including clothing) play is ov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serves per s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ce switches after losing 2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6:46:33Z</dcterms:created>
  <dc:creator>spencer stanton</dc:creator>
  <dc:description/>
  <dc:language>en-US</dc:language>
  <cp:lastModifiedBy>spencer stanton</cp:lastModifiedBy>
  <dcterms:modified xsi:type="dcterms:W3CDTF">2011-05-14T18:50:05Z</dcterms:modified>
  <cp:revision>11</cp:revision>
  <dc:subject/>
  <dc:title>Badminton Rules</dc:title>
</cp:coreProperties>
</file>